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184-9FBF-44BC-B5C0-B1745434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BB9-EB62-40C6-A689-0978AE58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A22-0201-40BF-9382-43CFC58B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941-C08D-4EA5-BE1F-86140BC8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FCD-FF9D-4287-A635-233BA7B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E3A-DDB9-4F9F-BFD3-F678F6A8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9C4-81EB-435F-A2BD-AADC235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C22-4009-422E-9080-35A3513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BB8-A75D-44DD-AF9D-B19EFE9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77B-B67A-4879-B48A-7DF2463D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55D-557C-4F3A-8A20-68689ED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0E5-E7E4-4E9D-9A8E-063148C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0EC6-1AC7-4A9E-9294-C4ADB7869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mpresarios y profesionales que sean sujetos pasivos del IVA pueden deducir de las cuotas devengadas a sus clientes, las cuotas soportadas en sus adquisicion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ceso de liquidación del IVA tiene dos componentes: el IVA devengado en las ventas y el IVA soportado en las compras que sea deducibl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claración – liquidación del impuesto puede tener tres result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500280"/>
            <a:ext cx="17269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ngado en v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3573360"/>
            <a:ext cx="2089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portado dedu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35640" y="3573360"/>
            <a:ext cx="220680" cy="755640"/>
            <a:chOff x="5435640" y="3573360"/>
            <a:chExt cx="220680" cy="755640"/>
          </a:xfrm>
        </p:grpSpPr>
        <p:sp>
          <p:nvSpPr>
            <p:cNvPr id="45" name=""/>
            <p:cNvSpPr/>
            <p:nvPr/>
          </p:nvSpPr>
          <p:spPr>
            <a:xfrm>
              <a:off x="5435640" y="3573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35640" y="388620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35640" y="432900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148360" y="328464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3357720"/>
            <a:ext cx="31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ngre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ensar en periodos  posteri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93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869000"/>
            <a:ext cx="882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OTAS DEDU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ujetos pasivos del IVA sólo podrán deducir las cuotas soportadas en operaciones que estén directa y exclusivamente relacionadas con su actividad empresarial o profesional; es decir, debe existir una relación directa entre la actividad que ejerce el sujeto pasivo y la utilización del bien o servicio cuyas cuotas se pretenden deduc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40464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ras realizadas a empresarios de otros países no comunitarios. El gravamen se liquida en la aduana. Incluida Ceuta, Canarias y Meli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gas Intracomunitaria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Ventas  de bienes a empresarios de otros Estados miembros de la Unión Europea. Son operaciones ex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rt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entas realizadas a empresarios de otros países no comunitarios. Son operaciones ex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2:47:32Z</dcterms:created>
  <dc:creator>Ana Maria</dc:creator>
  <dc:description/>
  <dc:language>en-US</dc:language>
  <cp:lastModifiedBy>Ana Maria</cp:lastModifiedBy>
  <dcterms:modified xsi:type="dcterms:W3CDTF">2010-05-13T19:54:04Z</dcterms:modified>
  <cp:revision>3</cp:revision>
  <dc:subject/>
  <dc:title>Los empresarios y profesionales que sean sujetos pasivos del IVA pueden deducir de las cuotas devengadas a sus clientes, las cuotas soportadas en sus adquisiciones.  El proceso de liquidación del IVA tiene dos componentes: el IVA devengado en las ventas y el IVA soportado en las compras que sea deducible.  La declaración – liquidación del impuesto puede tener tres resultado:</dc:title>
</cp:coreProperties>
</file>